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3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50.wmf" ContentType="image/x-wmf"/>
  <Override PartName="/ppt/media/image1.jpeg" ContentType="image/jpeg"/>
  <Override PartName="/ppt/media/image3.wmf" ContentType="image/x-wmf"/>
  <Override PartName="/ppt/media/image15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9CAA-60F6-4CA6-A911-22A51EEA9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BEE-0956-41F3-A35C-A6814311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DF0-DEF6-4BC0-AA37-E8795008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DA3-8E2E-4946-87F3-8B0AEA43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2BA-0150-40CD-B527-4773F67C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3E46-4933-45EB-A4BC-D24C97A5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582-AF4B-4705-A69F-9569F494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76B-7BA4-4BE8-B4BA-E4B288A5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EDC-CBA3-4342-83D0-66D5FDC4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6C8-81A0-4EBA-8304-CFE962B6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E9F-8E30-4959-8527-4E696ADC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37D-49BE-464B-8E67-E1C0C047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BB6-F925-42DF-A547-DFD55A98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3F5C-E42C-4D98-84F4-44F389FF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inding Reduced Basis for Lat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9072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th/Csc 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685800" y="8380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85800" y="18288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ctoring polynomials with  rational coeffe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10"/>
          <p:cNvGraphicFramePr/>
          <p:nvPr/>
        </p:nvGraphicFramePr>
        <p:xfrm>
          <a:off x="533520" y="3276720"/>
          <a:ext cx="39621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3962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1"/>
          <p:cNvSpPr/>
          <p:nvPr/>
        </p:nvSpPr>
        <p:spPr>
          <a:xfrm>
            <a:off x="457200" y="44956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12"/>
          <p:cNvGraphicFramePr/>
          <p:nvPr/>
        </p:nvGraphicFramePr>
        <p:xfrm>
          <a:off x="3048120" y="4267080"/>
          <a:ext cx="4159080" cy="9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267080"/>
                    <a:ext cx="41590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3"/>
          <p:cNvGraphicFramePr/>
          <p:nvPr/>
        </p:nvGraphicFramePr>
        <p:xfrm>
          <a:off x="2057400" y="5181480"/>
          <a:ext cx="104472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181480"/>
                    <a:ext cx="10447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09480" y="60948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4724280" y="4267080"/>
          <a:ext cx="316260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267080"/>
                    <a:ext cx="3162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8"/>
          <p:cNvGraphicFramePr/>
          <p:nvPr/>
        </p:nvGraphicFramePr>
        <p:xfrm>
          <a:off x="3746520" y="4267080"/>
          <a:ext cx="4572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6520" y="4267080"/>
                    <a:ext cx="4572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6"/>
          <p:cNvGraphicFramePr/>
          <p:nvPr/>
        </p:nvGraphicFramePr>
        <p:xfrm>
          <a:off x="2819520" y="5029200"/>
          <a:ext cx="8697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029200"/>
                    <a:ext cx="8697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5800" y="609480"/>
            <a:ext cx="77724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cd of all coeffecien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1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6019920" y="3429000"/>
          <a:ext cx="167004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429000"/>
                    <a:ext cx="16700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5334120" y="5029200"/>
          <a:ext cx="7635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5029200"/>
                    <a:ext cx="763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9"/>
          <p:cNvGraphicFramePr/>
          <p:nvPr/>
        </p:nvGraphicFramePr>
        <p:xfrm>
          <a:off x="3352680" y="1447920"/>
          <a:ext cx="641520" cy="4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447920"/>
                    <a:ext cx="6415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83808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ultaneous Diophantine approx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66680" y="1447920"/>
            <a:ext cx="5486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6"/>
          <p:cNvGraphicFramePr/>
          <p:nvPr/>
        </p:nvGraphicFramePr>
        <p:xfrm>
          <a:off x="2362320" y="1600200"/>
          <a:ext cx="71100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711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3124080" y="1600200"/>
          <a:ext cx="13780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00200"/>
                    <a:ext cx="1378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8"/>
          <p:cNvGraphicFramePr/>
          <p:nvPr/>
        </p:nvGraphicFramePr>
        <p:xfrm>
          <a:off x="5486400" y="1600200"/>
          <a:ext cx="109872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600200"/>
                    <a:ext cx="1098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2057400" y="2286000"/>
          <a:ext cx="16956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286000"/>
                    <a:ext cx="16956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1219320" y="2895480"/>
          <a:ext cx="2711160" cy="46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2895480"/>
                    <a:ext cx="271116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1"/>
          <p:cNvGraphicFramePr/>
          <p:nvPr/>
        </p:nvGraphicFramePr>
        <p:xfrm>
          <a:off x="1219320" y="4343400"/>
          <a:ext cx="1600200" cy="7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343400"/>
                    <a:ext cx="16002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43000" y="7621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ryp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838080" y="152388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et s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mi’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191120" y="1676520"/>
          <a:ext cx="180972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1809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3581280" y="2286000"/>
          <a:ext cx="200664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286000"/>
                    <a:ext cx="20066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914400" y="3048120"/>
          <a:ext cx="25146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048120"/>
                    <a:ext cx="2514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371600" y="6858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ums of squ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447920" y="1676520"/>
            <a:ext cx="7391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47920" y="6858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bc Conj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33520" y="1523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           defin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1371600" y="1676520"/>
          <a:ext cx="125100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12510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5"/>
          <p:cNvGraphicFramePr/>
          <p:nvPr/>
        </p:nvGraphicFramePr>
        <p:xfrm>
          <a:off x="2286000" y="2362320"/>
          <a:ext cx="220968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362320"/>
                    <a:ext cx="22096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6"/>
          <p:cNvSpPr/>
          <p:nvPr/>
        </p:nvSpPr>
        <p:spPr>
          <a:xfrm>
            <a:off x="762120" y="304812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838080" y="3581280"/>
          <a:ext cx="23749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81280"/>
                    <a:ext cx="23749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8"/>
          <p:cNvSpPr/>
          <p:nvPr/>
        </p:nvSpPr>
        <p:spPr>
          <a:xfrm>
            <a:off x="685800" y="4191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 conj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every x&gt;1 there exists only finitely many a,b,c with gcd(a,b,c) = 1 and a + b = c such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9"/>
          <p:cNvGraphicFramePr/>
          <p:nvPr/>
        </p:nvGraphicFramePr>
        <p:xfrm>
          <a:off x="838080" y="5181480"/>
          <a:ext cx="207648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181480"/>
                    <a:ext cx="2076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0"/>
          <p:cNvSpPr/>
          <p:nvPr/>
        </p:nvSpPr>
        <p:spPr>
          <a:xfrm>
            <a:off x="914400" y="5943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28600" y="990720"/>
            <a:ext cx="7924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 is “reasonably” shor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762120" y="2971800"/>
          <a:ext cx="2590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2590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4"/>
          <p:cNvGraphicFramePr/>
          <p:nvPr/>
        </p:nvGraphicFramePr>
        <p:xfrm>
          <a:off x="762120" y="3581280"/>
          <a:ext cx="220968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2209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5"/>
          <p:cNvGraphicFramePr/>
          <p:nvPr/>
        </p:nvGraphicFramePr>
        <p:xfrm>
          <a:off x="762120" y="4343400"/>
          <a:ext cx="160020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16002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6"/>
          <p:cNvSpPr/>
          <p:nvPr/>
        </p:nvSpPr>
        <p:spPr>
          <a:xfrm>
            <a:off x="6094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duced basis, what is it goo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7"/>
          <p:cNvGraphicFramePr/>
          <p:nvPr/>
        </p:nvGraphicFramePr>
        <p:xfrm>
          <a:off x="7696080" y="1752480"/>
          <a:ext cx="48924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1752480"/>
                    <a:ext cx="4892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762120" y="5105520"/>
          <a:ext cx="3504960" cy="57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5105520"/>
                    <a:ext cx="35049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57200" y="533520"/>
            <a:ext cx="5486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457200" y="45720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gorithm termin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457200" y="1219320"/>
          <a:ext cx="32958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32958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457200" y="1905120"/>
          <a:ext cx="230832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23083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6"/>
          <p:cNvSpPr/>
          <p:nvPr/>
        </p:nvSpPr>
        <p:spPr>
          <a:xfrm>
            <a:off x="2971800" y="2057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7"/>
          <p:cNvGraphicFramePr/>
          <p:nvPr/>
        </p:nvGraphicFramePr>
        <p:xfrm>
          <a:off x="457200" y="2895480"/>
          <a:ext cx="238752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895480"/>
                    <a:ext cx="2387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8"/>
          <p:cNvGraphicFramePr/>
          <p:nvPr/>
        </p:nvGraphicFramePr>
        <p:xfrm>
          <a:off x="533520" y="3886200"/>
          <a:ext cx="1009440" cy="67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886200"/>
                    <a:ext cx="10094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9"/>
          <p:cNvSpPr/>
          <p:nvPr/>
        </p:nvSpPr>
        <p:spPr>
          <a:xfrm>
            <a:off x="533520" y="4724280"/>
            <a:ext cx="8076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ly if some bi* is changed, which only occurs at case 1 of the algorithm. The number               is reduced by a factor of ¾ since       is, while the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6172200" y="5105520"/>
          <a:ext cx="5335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5105520"/>
                    <a:ext cx="533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1"/>
          <p:cNvGraphicFramePr/>
          <p:nvPr/>
        </p:nvGraphicFramePr>
        <p:xfrm>
          <a:off x="4800600" y="5486400"/>
          <a:ext cx="42552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5486400"/>
                    <a:ext cx="4255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57200" y="1828800"/>
            <a:ext cx="685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23880" y="5257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533520" y="53352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685800" y="1676520"/>
          <a:ext cx="426708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26708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6"/>
          <p:cNvGraphicFramePr/>
          <p:nvPr/>
        </p:nvGraphicFramePr>
        <p:xfrm>
          <a:off x="609480" y="2590920"/>
          <a:ext cx="175284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90920"/>
                    <a:ext cx="17528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7"/>
          <p:cNvSpPr/>
          <p:nvPr/>
        </p:nvSpPr>
        <p:spPr>
          <a:xfrm>
            <a:off x="685800" y="335268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685800" y="457200"/>
            <a:ext cx="7010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5"/>
          <p:cNvGraphicFramePr/>
          <p:nvPr/>
        </p:nvGraphicFramePr>
        <p:xfrm>
          <a:off x="4495680" y="1981080"/>
          <a:ext cx="139068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81080"/>
                    <a:ext cx="1390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6"/>
          <p:cNvSpPr/>
          <p:nvPr/>
        </p:nvSpPr>
        <p:spPr>
          <a:xfrm>
            <a:off x="762120" y="274320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4572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x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6553080" y="1371600"/>
          <a:ext cx="72396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371600"/>
                    <a:ext cx="723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5"/>
          <p:cNvSpPr/>
          <p:nvPr/>
        </p:nvSpPr>
        <p:spPr>
          <a:xfrm>
            <a:off x="685800" y="213372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6553080" y="2209680"/>
          <a:ext cx="142884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209680"/>
                    <a:ext cx="14288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7"/>
          <p:cNvGraphicFramePr/>
          <p:nvPr/>
        </p:nvGraphicFramePr>
        <p:xfrm>
          <a:off x="6553080" y="2819520"/>
          <a:ext cx="15051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2819520"/>
                    <a:ext cx="15051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2438280" y="3505320"/>
          <a:ext cx="314964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505320"/>
                    <a:ext cx="3149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9"/>
          <p:cNvSpPr/>
          <p:nvPr/>
        </p:nvSpPr>
        <p:spPr>
          <a:xfrm>
            <a:off x="838080" y="4191120"/>
            <a:ext cx="7086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 we have         valu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10"/>
          <p:cNvGraphicFramePr/>
          <p:nvPr/>
        </p:nvGraphicFramePr>
        <p:xfrm>
          <a:off x="3886200" y="4267080"/>
          <a:ext cx="615960" cy="4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426708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1"/>
          <p:cNvGraphicFramePr/>
          <p:nvPr/>
        </p:nvGraphicFramePr>
        <p:xfrm>
          <a:off x="4038480" y="5029200"/>
          <a:ext cx="6159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50292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12"/>
          <p:cNvGraphicFramePr/>
          <p:nvPr/>
        </p:nvGraphicFramePr>
        <p:xfrm>
          <a:off x="3505320" y="5715000"/>
          <a:ext cx="615960" cy="42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5320" y="57150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914400" y="533520"/>
            <a:ext cx="7696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5"/>
          <p:cNvGraphicFramePr/>
          <p:nvPr/>
        </p:nvGraphicFramePr>
        <p:xfrm>
          <a:off x="5257800" y="2743200"/>
          <a:ext cx="15811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743200"/>
                    <a:ext cx="15811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676520" y="914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Lat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2343240" cy="2181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8088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80880" y="5029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9"/>
          <p:cNvGraphicFramePr/>
          <p:nvPr/>
        </p:nvGraphicFramePr>
        <p:xfrm>
          <a:off x="1143000" y="4732200"/>
          <a:ext cx="3657600" cy="9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4732200"/>
                    <a:ext cx="36576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533520" y="38088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tti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exists a basis b1,b2,…,bn of      such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1752480" y="2666880"/>
          <a:ext cx="438156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6880"/>
                    <a:ext cx="438156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1"/>
          <p:cNvGraphicFramePr/>
          <p:nvPr/>
        </p:nvGraphicFramePr>
        <p:xfrm>
          <a:off x="7162920" y="914400"/>
          <a:ext cx="4888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914400"/>
                    <a:ext cx="4888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12"/>
          <p:cNvGraphicFramePr/>
          <p:nvPr/>
        </p:nvGraphicFramePr>
        <p:xfrm>
          <a:off x="3276720" y="1828800"/>
          <a:ext cx="53316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828800"/>
                    <a:ext cx="533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14"/>
          <p:cNvGraphicFramePr/>
          <p:nvPr/>
        </p:nvGraphicFramePr>
        <p:xfrm>
          <a:off x="4572000" y="5257800"/>
          <a:ext cx="99072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5257800"/>
                    <a:ext cx="990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27"/>
          <p:cNvSpPr/>
          <p:nvPr/>
        </p:nvSpPr>
        <p:spPr>
          <a:xfrm flipV="1">
            <a:off x="3998880" y="888480"/>
            <a:ext cx="1800" cy="384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1440000" y="3006720"/>
            <a:ext cx="5278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V="1">
            <a:off x="4017960" y="21081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052880" y="302436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4952880" y="32004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2"/>
          <p:cNvSpPr/>
          <p:nvPr/>
        </p:nvSpPr>
        <p:spPr>
          <a:xfrm>
            <a:off x="5229360" y="2030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1720800" y="27543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4"/>
          <p:cNvSpPr/>
          <p:nvPr/>
        </p:nvSpPr>
        <p:spPr>
          <a:xfrm>
            <a:off x="6229440" y="2322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5353200" y="211788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6"/>
          <p:cNvSpPr/>
          <p:nvPr/>
        </p:nvSpPr>
        <p:spPr>
          <a:xfrm>
            <a:off x="3929040" y="29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7"/>
          <p:cNvSpPr/>
          <p:nvPr/>
        </p:nvSpPr>
        <p:spPr>
          <a:xfrm>
            <a:off x="2766960" y="393048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8"/>
          <p:cNvSpPr/>
          <p:nvPr/>
        </p:nvSpPr>
        <p:spPr>
          <a:xfrm>
            <a:off x="3029040" y="273996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9"/>
          <p:cNvSpPr/>
          <p:nvPr/>
        </p:nvSpPr>
        <p:spPr>
          <a:xfrm>
            <a:off x="4219560" y="17971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0"/>
          <p:cNvSpPr/>
          <p:nvPr/>
        </p:nvSpPr>
        <p:spPr>
          <a:xfrm>
            <a:off x="2911320" y="26766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1"/>
          <p:cNvSpPr/>
          <p:nvPr/>
        </p:nvSpPr>
        <p:spPr>
          <a:xfrm flipV="1">
            <a:off x="3008160" y="183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2"/>
          <p:cNvSpPr/>
          <p:nvPr/>
        </p:nvSpPr>
        <p:spPr>
          <a:xfrm flipV="1">
            <a:off x="2722680" y="301788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3"/>
          <p:cNvSpPr/>
          <p:nvPr/>
        </p:nvSpPr>
        <p:spPr>
          <a:xfrm>
            <a:off x="2624040" y="38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4"/>
          <p:cNvSpPr/>
          <p:nvPr/>
        </p:nvSpPr>
        <p:spPr>
          <a:xfrm>
            <a:off x="5086440" y="32814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5"/>
          <p:cNvSpPr/>
          <p:nvPr/>
        </p:nvSpPr>
        <p:spPr>
          <a:xfrm>
            <a:off x="5970600" y="34592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6"/>
          <p:cNvSpPr/>
          <p:nvPr/>
        </p:nvSpPr>
        <p:spPr>
          <a:xfrm>
            <a:off x="3641760" y="4127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1622520" y="36068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3780000" y="417996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9"/>
          <p:cNvSpPr/>
          <p:nvPr/>
        </p:nvSpPr>
        <p:spPr>
          <a:xfrm>
            <a:off x="4673520" y="43830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0"/>
          <p:cNvSpPr/>
          <p:nvPr/>
        </p:nvSpPr>
        <p:spPr>
          <a:xfrm flipV="1">
            <a:off x="5029200" y="235440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1"/>
          <p:cNvSpPr/>
          <p:nvPr/>
        </p:nvSpPr>
        <p:spPr>
          <a:xfrm flipV="1">
            <a:off x="3733920" y="327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1752480" y="36576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4343400" y="18288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4"/>
          <p:cNvSpPr/>
          <p:nvPr/>
        </p:nvSpPr>
        <p:spPr>
          <a:xfrm flipV="1">
            <a:off x="4724280" y="35053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5"/>
          <p:cNvSpPr/>
          <p:nvPr/>
        </p:nvSpPr>
        <p:spPr>
          <a:xfrm flipV="1">
            <a:off x="6095880" y="25909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6"/>
          <p:cNvSpPr/>
          <p:nvPr/>
        </p:nvSpPr>
        <p:spPr>
          <a:xfrm>
            <a:off x="6400800" y="236232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7"/>
          <p:cNvSpPr/>
          <p:nvPr/>
        </p:nvSpPr>
        <p:spPr>
          <a:xfrm>
            <a:off x="7294680" y="2565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8"/>
          <p:cNvSpPr/>
          <p:nvPr/>
        </p:nvSpPr>
        <p:spPr>
          <a:xfrm>
            <a:off x="380880" y="304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ructing latt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3886200" y="533520"/>
          <a:ext cx="259092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33520"/>
                    <a:ext cx="2590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3"/>
          <p:cNvSpPr/>
          <p:nvPr/>
        </p:nvSpPr>
        <p:spPr>
          <a:xfrm>
            <a:off x="609480" y="457200"/>
            <a:ext cx="655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457200"/>
            <a:ext cx="8076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erfor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m-Schm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1295280" y="457200"/>
          <a:ext cx="17463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"/>
                    <a:ext cx="1746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"/>
          <p:cNvSpPr/>
          <p:nvPr/>
        </p:nvSpPr>
        <p:spPr>
          <a:xfrm>
            <a:off x="60948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990720" y="26668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9907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371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4792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34340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4724280" y="26668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472428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181480" y="2819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6019920" y="2666880"/>
            <a:ext cx="1440" cy="106704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54100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25"/>
          <p:cNvGraphicFramePr/>
          <p:nvPr/>
        </p:nvGraphicFramePr>
        <p:xfrm>
          <a:off x="5410080" y="3809880"/>
          <a:ext cx="8575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809880"/>
                    <a:ext cx="857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26"/>
          <p:cNvSpPr/>
          <p:nvPr/>
        </p:nvSpPr>
        <p:spPr>
          <a:xfrm>
            <a:off x="7621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44197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601992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62940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0"/>
          <p:cNvSpPr/>
          <p:nvPr/>
        </p:nvSpPr>
        <p:spPr>
          <a:xfrm>
            <a:off x="609480" y="4495680"/>
            <a:ext cx="3429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990720" y="5943600"/>
            <a:ext cx="87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762120" y="5943600"/>
            <a:ext cx="3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5"/>
          <p:cNvSpPr/>
          <p:nvPr/>
        </p:nvSpPr>
        <p:spPr>
          <a:xfrm flipV="1">
            <a:off x="99072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36"/>
          <p:cNvGraphicFramePr/>
          <p:nvPr/>
        </p:nvGraphicFramePr>
        <p:xfrm>
          <a:off x="1152360" y="4637160"/>
          <a:ext cx="159084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2360" y="4637160"/>
                    <a:ext cx="1590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38"/>
          <p:cNvGraphicFramePr/>
          <p:nvPr/>
        </p:nvGraphicFramePr>
        <p:xfrm>
          <a:off x="5029200" y="990720"/>
          <a:ext cx="99684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990720"/>
                    <a:ext cx="9968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39"/>
          <p:cNvGraphicFramePr/>
          <p:nvPr/>
        </p:nvGraphicFramePr>
        <p:xfrm>
          <a:off x="4800600" y="3733920"/>
          <a:ext cx="29520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733920"/>
                    <a:ext cx="295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46"/>
          <p:cNvGraphicFramePr/>
          <p:nvPr/>
        </p:nvGraphicFramePr>
        <p:xfrm>
          <a:off x="1143000" y="5943600"/>
          <a:ext cx="345960" cy="46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" name="Object 4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5943600"/>
                    <a:ext cx="345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914400" y="60948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4267080" y="1295280"/>
          <a:ext cx="93348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9334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4267080" y="1893960"/>
          <a:ext cx="175284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893960"/>
                    <a:ext cx="17528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8"/>
          <p:cNvGraphicFramePr/>
          <p:nvPr/>
        </p:nvGraphicFramePr>
        <p:xfrm>
          <a:off x="573120" y="2819520"/>
          <a:ext cx="2701800" cy="52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120" y="2819520"/>
                    <a:ext cx="2701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2"/>
          <p:cNvGraphicFramePr/>
          <p:nvPr/>
        </p:nvGraphicFramePr>
        <p:xfrm>
          <a:off x="533520" y="3429000"/>
          <a:ext cx="2133360" cy="88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429000"/>
                    <a:ext cx="2133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4"/>
          <p:cNvGraphicFramePr/>
          <p:nvPr/>
        </p:nvGraphicFramePr>
        <p:xfrm>
          <a:off x="380880" y="4800600"/>
          <a:ext cx="142236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4800600"/>
                    <a:ext cx="1422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21"/>
          <p:cNvSpPr/>
          <p:nvPr/>
        </p:nvSpPr>
        <p:spPr>
          <a:xfrm>
            <a:off x="1752480" y="4800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thogonal b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3733920" y="2819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4"/>
          <p:cNvGraphicFramePr/>
          <p:nvPr/>
        </p:nvGraphicFramePr>
        <p:xfrm>
          <a:off x="5410080" y="2819520"/>
          <a:ext cx="438120" cy="42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819520"/>
                    <a:ext cx="438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5"/>
          <p:cNvGraphicFramePr/>
          <p:nvPr/>
        </p:nvGraphicFramePr>
        <p:xfrm>
          <a:off x="4267080" y="2362320"/>
          <a:ext cx="281304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2362320"/>
                    <a:ext cx="28130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533520" y="1600200"/>
            <a:ext cx="838188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is b1,..,bn of a lattice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066680" y="2819520"/>
          <a:ext cx="91440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91440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"/>
          <p:cNvGraphicFramePr/>
          <p:nvPr/>
        </p:nvGraphicFramePr>
        <p:xfrm>
          <a:off x="1143000" y="3505320"/>
          <a:ext cx="4349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505320"/>
                    <a:ext cx="434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5"/>
          <p:cNvSpPr/>
          <p:nvPr/>
        </p:nvSpPr>
        <p:spPr>
          <a:xfrm>
            <a:off x="457200" y="48769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2971800" y="2895480"/>
          <a:ext cx="18288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95480"/>
                    <a:ext cx="18288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9:27:15Z</dcterms:created>
  <dc:creator>Ido Heskia</dc:creator>
  <dc:description/>
  <dc:language>en-US</dc:language>
  <cp:lastModifiedBy>LEGION</cp:lastModifiedBy>
  <dcterms:modified xsi:type="dcterms:W3CDTF">2017-07-06T06:34:10Z</dcterms:modified>
  <cp:revision>61</cp:revision>
  <dc:subject/>
  <dc:title>Factoring polynomials with rational coeffecients</dc:title>
</cp:coreProperties>
</file>